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3A30-2BC1-40D4-8732-779A0EE6CAA3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Bas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translators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data mana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rm DMC applies to an application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s transla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aintain the LPM/5 meta-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us yield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ot unmanage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ly more difficult to implement than a basic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752480"/>
          <a:ext cx="6704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704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486400"/>
            <a:ext cx="2286000" cy="609480"/>
          </a:xfrm>
          <a:prstGeom prst="wedgeRoundRectCallout">
            <a:avLst>
              <a:gd name="adj1" fmla="val 48333"/>
              <a:gd name="adj2" fmla="val -164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data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DMC more Difficult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applications may not track the internal evolu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mapping between the LPM and the native data structures may b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rs hard to track when mapping not one-to-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ble to read non-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aking managed (new his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Mapping T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16440" y="2286000"/>
            <a:ext cx="4327560" cy="249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297160"/>
            <a:ext cx="429732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2360520"/>
            <a:ext cx="4138560" cy="22813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8840" y="241308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8640" y="241308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4400" y="241308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120" y="26002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20" y="27846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5840" y="2784600"/>
            <a:ext cx="132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920" y="29671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9000" y="296712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/1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6560" y="2967120"/>
            <a:ext cx="131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9200" y="3179880"/>
            <a:ext cx="51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920" y="3370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5120" y="3370320"/>
            <a:ext cx="133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920" y="35542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6560" y="35542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0200" y="355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920" y="37368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6200" y="373680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0200" y="3736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8120" y="2368440"/>
            <a:ext cx="1440" cy="227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240" y="2360520"/>
            <a:ext cx="1440" cy="2289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59236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280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6712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56120"/>
            <a:ext cx="4138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" y="33814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6868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4328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392436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408132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4248000"/>
            <a:ext cx="41389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" y="44308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20" y="261612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3800" y="3519360"/>
            <a:ext cx="1509840" cy="487440"/>
            <a:chOff x="1693800" y="3519360"/>
            <a:chExt cx="1509840" cy="487440"/>
          </a:xfrm>
        </p:grpSpPr>
        <p:sp>
          <p:nvSpPr>
            <p:cNvPr id="133" name=""/>
            <p:cNvSpPr/>
            <p:nvPr/>
          </p:nvSpPr>
          <p:spPr>
            <a:xfrm>
              <a:off x="1708200" y="3533760"/>
              <a:ext cx="1255680" cy="460440"/>
            </a:xfrm>
            <a:custGeom>
              <a:avLst/>
              <a:gdLst/>
              <a:ahLst/>
              <a:rect l="l" t="t" r="r" b="b"/>
              <a:pathLst>
                <a:path w="1582" h="581">
                  <a:moveTo>
                    <a:pt x="469" y="0"/>
                  </a:moveTo>
                  <a:lnTo>
                    <a:pt x="469" y="145"/>
                  </a:lnTo>
                  <a:lnTo>
                    <a:pt x="1582" y="145"/>
                  </a:lnTo>
                  <a:lnTo>
                    <a:pt x="1582" y="435"/>
                  </a:lnTo>
                  <a:lnTo>
                    <a:pt x="469" y="435"/>
                  </a:lnTo>
                  <a:lnTo>
                    <a:pt x="469" y="581"/>
                  </a:lnTo>
                  <a:lnTo>
                    <a:pt x="0" y="29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1400" y="3648240"/>
              <a:ext cx="9216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9640" y="3648240"/>
              <a:ext cx="4752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3800" y="3519360"/>
              <a:ext cx="1276560" cy="487440"/>
            </a:xfrm>
            <a:custGeom>
              <a:avLst/>
              <a:gdLst/>
              <a:ahLst/>
              <a:rect l="l" t="t" r="r" b="b"/>
              <a:pathLst>
                <a:path w="1608" h="613">
                  <a:moveTo>
                    <a:pt x="477" y="161"/>
                  </a:moveTo>
                  <a:lnTo>
                    <a:pt x="477" y="170"/>
                  </a:lnTo>
                  <a:lnTo>
                    <a:pt x="486" y="170"/>
                  </a:lnTo>
                  <a:lnTo>
                    <a:pt x="1599" y="170"/>
                  </a:lnTo>
                  <a:lnTo>
                    <a:pt x="1599" y="161"/>
                  </a:lnTo>
                  <a:lnTo>
                    <a:pt x="1590" y="161"/>
                  </a:lnTo>
                  <a:lnTo>
                    <a:pt x="1590" y="451"/>
                  </a:lnTo>
                  <a:lnTo>
                    <a:pt x="1599" y="451"/>
                  </a:lnTo>
                  <a:lnTo>
                    <a:pt x="1599" y="442"/>
                  </a:lnTo>
                  <a:lnTo>
                    <a:pt x="486" y="442"/>
                  </a:lnTo>
                  <a:lnTo>
                    <a:pt x="477" y="442"/>
                  </a:lnTo>
                  <a:lnTo>
                    <a:pt x="477" y="451"/>
                  </a:lnTo>
                  <a:lnTo>
                    <a:pt x="477" y="597"/>
                  </a:lnTo>
                  <a:lnTo>
                    <a:pt x="486" y="597"/>
                  </a:lnTo>
                  <a:lnTo>
                    <a:pt x="491" y="590"/>
                  </a:lnTo>
                  <a:lnTo>
                    <a:pt x="22" y="299"/>
                  </a:lnTo>
                  <a:lnTo>
                    <a:pt x="17" y="306"/>
                  </a:lnTo>
                  <a:lnTo>
                    <a:pt x="22" y="314"/>
                  </a:lnTo>
                  <a:lnTo>
                    <a:pt x="491" y="24"/>
                  </a:lnTo>
                  <a:lnTo>
                    <a:pt x="486" y="16"/>
                  </a:lnTo>
                  <a:lnTo>
                    <a:pt x="477" y="16"/>
                  </a:lnTo>
                  <a:lnTo>
                    <a:pt x="477" y="161"/>
                  </a:lnTo>
                  <a:close/>
                  <a:moveTo>
                    <a:pt x="495" y="16"/>
                  </a:moveTo>
                  <a:lnTo>
                    <a:pt x="495" y="0"/>
                  </a:lnTo>
                  <a:lnTo>
                    <a:pt x="482" y="9"/>
                  </a:lnTo>
                  <a:lnTo>
                    <a:pt x="13" y="299"/>
                  </a:lnTo>
                  <a:lnTo>
                    <a:pt x="0" y="306"/>
                  </a:lnTo>
                  <a:lnTo>
                    <a:pt x="13" y="314"/>
                  </a:lnTo>
                  <a:lnTo>
                    <a:pt x="482" y="605"/>
                  </a:lnTo>
                  <a:lnTo>
                    <a:pt x="495" y="613"/>
                  </a:lnTo>
                  <a:lnTo>
                    <a:pt x="495" y="597"/>
                  </a:lnTo>
                  <a:lnTo>
                    <a:pt x="495" y="451"/>
                  </a:lnTo>
                  <a:lnTo>
                    <a:pt x="486" y="451"/>
                  </a:lnTo>
                  <a:lnTo>
                    <a:pt x="486" y="460"/>
                  </a:lnTo>
                  <a:lnTo>
                    <a:pt x="1599" y="460"/>
                  </a:lnTo>
                  <a:lnTo>
                    <a:pt x="1608" y="460"/>
                  </a:lnTo>
                  <a:lnTo>
                    <a:pt x="1608" y="451"/>
                  </a:lnTo>
                  <a:lnTo>
                    <a:pt x="1608" y="161"/>
                  </a:lnTo>
                  <a:lnTo>
                    <a:pt x="1608" y="152"/>
                  </a:lnTo>
                  <a:lnTo>
                    <a:pt x="1599" y="152"/>
                  </a:lnTo>
                  <a:lnTo>
                    <a:pt x="486" y="152"/>
                  </a:lnTo>
                  <a:lnTo>
                    <a:pt x="486" y="161"/>
                  </a:lnTo>
                  <a:lnTo>
                    <a:pt x="495" y="161"/>
                  </a:lnTo>
                  <a:lnTo>
                    <a:pt x="49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3480" y="3639960"/>
              <a:ext cx="106560" cy="244800"/>
            </a:xfrm>
            <a:custGeom>
              <a:avLst/>
              <a:gdLst/>
              <a:ahLst/>
              <a:rect l="l" t="t" r="r" b="b"/>
              <a:pathLst>
                <a:path w="135" h="308">
                  <a:moveTo>
                    <a:pt x="117" y="299"/>
                  </a:moveTo>
                  <a:lnTo>
                    <a:pt x="126" y="299"/>
                  </a:lnTo>
                  <a:lnTo>
                    <a:pt x="126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26" y="18"/>
                  </a:lnTo>
                  <a:lnTo>
                    <a:pt x="126" y="9"/>
                  </a:lnTo>
                  <a:lnTo>
                    <a:pt x="117" y="9"/>
                  </a:lnTo>
                  <a:lnTo>
                    <a:pt x="117" y="299"/>
                  </a:lnTo>
                  <a:close/>
                  <a:moveTo>
                    <a:pt x="135" y="9"/>
                  </a:moveTo>
                  <a:lnTo>
                    <a:pt x="135" y="0"/>
                  </a:lnTo>
                  <a:lnTo>
                    <a:pt x="12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126" y="308"/>
                  </a:lnTo>
                  <a:lnTo>
                    <a:pt x="135" y="308"/>
                  </a:lnTo>
                  <a:lnTo>
                    <a:pt x="135" y="29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160" y="3639960"/>
              <a:ext cx="60480" cy="244800"/>
            </a:xfrm>
            <a:custGeom>
              <a:avLst/>
              <a:gdLst/>
              <a:ahLst/>
              <a:rect l="l" t="t" r="r" b="b"/>
              <a:pathLst>
                <a:path w="76" h="308">
                  <a:moveTo>
                    <a:pt x="58" y="299"/>
                  </a:moveTo>
                  <a:lnTo>
                    <a:pt x="67" y="299"/>
                  </a:lnTo>
                  <a:lnTo>
                    <a:pt x="67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67" y="18"/>
                  </a:lnTo>
                  <a:lnTo>
                    <a:pt x="67" y="9"/>
                  </a:lnTo>
                  <a:lnTo>
                    <a:pt x="58" y="9"/>
                  </a:lnTo>
                  <a:lnTo>
                    <a:pt x="58" y="299"/>
                  </a:lnTo>
                  <a:close/>
                  <a:moveTo>
                    <a:pt x="76" y="9"/>
                  </a:moveTo>
                  <a:lnTo>
                    <a:pt x="76" y="0"/>
                  </a:lnTo>
                  <a:lnTo>
                    <a:pt x="6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67" y="308"/>
                  </a:lnTo>
                  <a:lnTo>
                    <a:pt x="76" y="308"/>
                  </a:lnTo>
                  <a:lnTo>
                    <a:pt x="76" y="29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4227480"/>
            <a:ext cx="1023840" cy="260280"/>
          </a:xfrm>
          <a:custGeom>
            <a:avLst/>
            <a:gdLst/>
            <a:ahLst/>
            <a:rect l="l" t="t" r="r" b="b"/>
            <a:pathLst>
              <a:path w="1289" h="326">
                <a:moveTo>
                  <a:pt x="54" y="0"/>
                </a:moveTo>
                <a:lnTo>
                  <a:pt x="43" y="1"/>
                </a:lnTo>
                <a:lnTo>
                  <a:pt x="33" y="4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272"/>
                </a:lnTo>
                <a:lnTo>
                  <a:pt x="1" y="283"/>
                </a:lnTo>
                <a:lnTo>
                  <a:pt x="4" y="293"/>
                </a:lnTo>
                <a:lnTo>
                  <a:pt x="9" y="302"/>
                </a:lnTo>
                <a:lnTo>
                  <a:pt x="16" y="310"/>
                </a:lnTo>
                <a:lnTo>
                  <a:pt x="24" y="317"/>
                </a:lnTo>
                <a:lnTo>
                  <a:pt x="33" y="322"/>
                </a:lnTo>
                <a:lnTo>
                  <a:pt x="43" y="325"/>
                </a:lnTo>
                <a:lnTo>
                  <a:pt x="54" y="326"/>
                </a:lnTo>
                <a:lnTo>
                  <a:pt x="1235" y="326"/>
                </a:lnTo>
                <a:lnTo>
                  <a:pt x="1246" y="325"/>
                </a:lnTo>
                <a:lnTo>
                  <a:pt x="1256" y="322"/>
                </a:lnTo>
                <a:lnTo>
                  <a:pt x="1265" y="317"/>
                </a:lnTo>
                <a:lnTo>
                  <a:pt x="1273" y="310"/>
                </a:lnTo>
                <a:lnTo>
                  <a:pt x="1280" y="302"/>
                </a:lnTo>
                <a:lnTo>
                  <a:pt x="1285" y="293"/>
                </a:lnTo>
                <a:lnTo>
                  <a:pt x="1288" y="283"/>
                </a:lnTo>
                <a:lnTo>
                  <a:pt x="1289" y="272"/>
                </a:lnTo>
                <a:lnTo>
                  <a:pt x="1289" y="54"/>
                </a:lnTo>
                <a:lnTo>
                  <a:pt x="1288" y="43"/>
                </a:lnTo>
                <a:lnTo>
                  <a:pt x="1285" y="33"/>
                </a:lnTo>
                <a:lnTo>
                  <a:pt x="1280" y="24"/>
                </a:lnTo>
                <a:lnTo>
                  <a:pt x="1273" y="16"/>
                </a:lnTo>
                <a:lnTo>
                  <a:pt x="1265" y="9"/>
                </a:lnTo>
                <a:lnTo>
                  <a:pt x="1256" y="4"/>
                </a:lnTo>
                <a:lnTo>
                  <a:pt x="1246" y="1"/>
                </a:lnTo>
                <a:lnTo>
                  <a:pt x="1235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71560" y="423864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2400" y="43848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1800cc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8280" y="423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3192480"/>
            <a:ext cx="41371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11624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560" y="495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4360" y="4952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78460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81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4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497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0"/>
          <a:ext cx="7945200" cy="65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945200" cy="65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DM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an IDI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ranslator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the incremental impor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f the displacement of existing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ability is built-on 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s applica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e D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I translator uses “comparator logic” to identif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 supports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Revision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spectrum of possible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ocus on Basic CIS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aws on CIS/2 Volume 2 (Implementation Gu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vise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38080" y="4038480"/>
            <a:ext cx="2057400" cy="1067040"/>
          </a:xfrm>
          <a:prstGeom prst="wedgeRoundRectCallout">
            <a:avLst>
              <a:gd name="adj1" fmla="val 86726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edback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34120"/>
            <a:ext cx="1828800" cy="1066680"/>
          </a:xfrm>
          <a:prstGeom prst="wedgeRoundRectCallout">
            <a:avLst>
              <a:gd name="adj1" fmla="val 107986"/>
              <a:gd name="adj2" fmla="val -286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855504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5504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s 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ut an PMR translato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ready to support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ata sharing and management via a 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 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ccess translators (via SD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access translators (via Part 21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translators are some way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600200"/>
          <a:ext cx="63547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54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267080"/>
            <a:ext cx="2286000" cy="22100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2286000" cy="221004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520" y="62485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-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possib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, DMC, IDI, PMR-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(and conformance) requirements escalate incremen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with basic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C the key to data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M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nagement conform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ata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MR-Enab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49960" y="2057400"/>
            <a:ext cx="2160360" cy="3658680"/>
            <a:chOff x="6249960" y="2057400"/>
            <a:chExt cx="2160360" cy="3658680"/>
          </a:xfrm>
        </p:grpSpPr>
        <p:sp>
          <p:nvSpPr>
            <p:cNvPr id="68" name=""/>
            <p:cNvSpPr/>
            <p:nvPr/>
          </p:nvSpPr>
          <p:spPr>
            <a:xfrm>
              <a:off x="6705720" y="2057400"/>
              <a:ext cx="1218960" cy="2971800"/>
            </a:xfrm>
            <a:prstGeom prst="downArrow">
              <a:avLst>
                <a:gd name="adj1" fmla="val 50000"/>
                <a:gd name="adj2" fmla="val 6094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960" y="5256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COMPLEX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n’t Panic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2 reflects two aspects of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to address emerg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implementation (and deploy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imple file exchange right through to integrating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yer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are addition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103400"/>
          <a:ext cx="614520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03400"/>
                    <a:ext cx="61452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5720" y="5029200"/>
            <a:ext cx="23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33720" y="1523880"/>
          <a:ext cx="518148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18148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31840" y="53341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, Export 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CC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mport (all or part of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port (all or part of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unit system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displaces existing data on 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ndrew Crowley</cp:lastModifiedBy>
  <cp:lastPrinted>1999-06-19T15:36:00Z</cp:lastPrinted>
  <dcterms:modified xsi:type="dcterms:W3CDTF">2000-04-07T16:17:18Z</dcterms:modified>
  <cp:revision>14</cp:revision>
  <dc:subject/>
  <dc:title>CIS/2  Implementation Workshop</dc:title>
</cp:coreProperties>
</file>